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1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536650">
            <a:hlinkClick r:id="rId3" action="ppaction://hlinksldjump"/>
          </p:cNvPr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8" name="图片 536667" descr="图片1"/>
          <p:cNvPicPr/>
          <p:nvPr/>
        </p:nvPicPr>
        <p:blipFill>
          <a:blip r:embed="rId4"/>
          <a:srcRect l="0" t="0" r="32242" b="-6897"/>
          <a:stretch/>
        </p:blipFill>
        <p:spPr>
          <a:xfrm>
            <a:off x="3562200" y="728640"/>
            <a:ext cx="2168640" cy="312840"/>
          </a:xfrm>
          <a:prstGeom prst="rect">
            <a:avLst/>
          </a:prstGeom>
          <a:ln w="0">
            <a:noFill/>
          </a:ln>
        </p:spPr>
      </p:pic>
      <p:sp>
        <p:nvSpPr>
          <p:cNvPr id="39" name="矩形 536644">
            <a:hlinkClick r:id="rId5" action="ppaction://hlinksldjump"/>
          </p:cNvPr>
          <p:cNvSpPr/>
          <p:nvPr/>
        </p:nvSpPr>
        <p:spPr>
          <a:xfrm>
            <a:off x="3575160" y="773280"/>
            <a:ext cx="955440" cy="199800"/>
          </a:xfrm>
          <a:prstGeom prst="rect">
            <a:avLst/>
          </a:prstGeom>
          <a:solidFill>
            <a:srgbClr val="99cc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8">
            <a:hlinkClick r:id="rId6" action="ppaction://hlinksldjump"/>
          </p:cNvPr>
          <p:cNvSpPr/>
          <p:nvPr/>
        </p:nvSpPr>
        <p:spPr>
          <a:xfrm>
            <a:off x="4629240" y="784080"/>
            <a:ext cx="1074600" cy="189000"/>
          </a:xfrm>
          <a:prstGeom prst="rect">
            <a:avLst/>
          </a:prstGeom>
          <a:solidFill>
            <a:srgbClr val="99cc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68675"/>
          <p:cNvSpPr/>
          <p:nvPr/>
        </p:nvSpPr>
        <p:spPr>
          <a:xfrm>
            <a:off x="1101600" y="184932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课时  图形与位置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0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048577"/>
          <p:cNvSpPr/>
          <p:nvPr/>
        </p:nvSpPr>
        <p:spPr>
          <a:xfrm>
            <a:off x="263520" y="1395360"/>
            <a:ext cx="90914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三角形的一个内角正好等于其余两个内角的度数和，这是一个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）三角形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梯形上底与下底的和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高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面积是（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一个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、宽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长方形内画一个最大的半圆，这个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半圆的面积是（        ）平方厘米，周长是（      ）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一个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圆柱形钢材熔铸成一个与它等底的圆锥，这个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圆锥的高是（   ）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" name="文本框 1048578"/>
          <p:cNvSpPr/>
          <p:nvPr/>
        </p:nvSpPr>
        <p:spPr>
          <a:xfrm>
            <a:off x="396720" y="1854720"/>
            <a:ext cx="118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直角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文本框 1048579"/>
          <p:cNvSpPr/>
          <p:nvPr/>
        </p:nvSpPr>
        <p:spPr>
          <a:xfrm>
            <a:off x="8067600" y="2362680"/>
            <a:ext cx="74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文本框 1048580"/>
          <p:cNvSpPr/>
          <p:nvPr/>
        </p:nvSpPr>
        <p:spPr>
          <a:xfrm>
            <a:off x="-50760" y="2858040"/>
            <a:ext cx="2082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平方厘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文本框 1048581"/>
          <p:cNvSpPr/>
          <p:nvPr/>
        </p:nvSpPr>
        <p:spPr>
          <a:xfrm>
            <a:off x="1954080" y="3873960"/>
            <a:ext cx="187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9.232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" name="文本框 1048582"/>
          <p:cNvSpPr/>
          <p:nvPr/>
        </p:nvSpPr>
        <p:spPr>
          <a:xfrm>
            <a:off x="5977080" y="3873960"/>
            <a:ext cx="1419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7.99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" name="文本框 1048583"/>
          <p:cNvSpPr/>
          <p:nvPr/>
        </p:nvSpPr>
        <p:spPr>
          <a:xfrm>
            <a:off x="1882800" y="4877280"/>
            <a:ext cx="74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049601"/>
          <p:cNvSpPr/>
          <p:nvPr/>
        </p:nvSpPr>
        <p:spPr>
          <a:xfrm>
            <a:off x="233280" y="174780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用一个边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正方形卷成一个圆柱，这个圆柱的侧面积是（    ）平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右图有（  ）条对称轴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小明家在学校的东南面，学校就在小明家的（     ）面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23" name="组合 1049604"/>
          <p:cNvGrpSpPr/>
          <p:nvPr/>
        </p:nvGrpSpPr>
        <p:grpSpPr>
          <a:xfrm>
            <a:off x="4584600" y="2289240"/>
            <a:ext cx="1271520" cy="1168200"/>
            <a:chOff x="4584600" y="2289240"/>
            <a:chExt cx="1271520" cy="1168200"/>
          </a:xfrm>
        </p:grpSpPr>
        <p:sp>
          <p:nvSpPr>
            <p:cNvPr id="124" name="矩形 1049603"/>
            <p:cNvSpPr/>
            <p:nvPr/>
          </p:nvSpPr>
          <p:spPr>
            <a:xfrm>
              <a:off x="4584600" y="2289240"/>
              <a:ext cx="1265040" cy="11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25" name="图片 1049605" descr=""/>
            <p:cNvPicPr/>
            <p:nvPr/>
          </p:nvPicPr>
          <p:blipFill>
            <a:blip r:embed="rId1"/>
            <a:stretch/>
          </p:blipFill>
          <p:spPr>
            <a:xfrm>
              <a:off x="4584600" y="2289240"/>
              <a:ext cx="127152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文本框 1049606"/>
          <p:cNvSpPr/>
          <p:nvPr/>
        </p:nvSpPr>
        <p:spPr>
          <a:xfrm>
            <a:off x="406440" y="2210040"/>
            <a:ext cx="1523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文本框 1049607"/>
          <p:cNvSpPr/>
          <p:nvPr/>
        </p:nvSpPr>
        <p:spPr>
          <a:xfrm>
            <a:off x="1890720" y="2705400"/>
            <a:ext cx="816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" name="文本框 1049608"/>
          <p:cNvSpPr/>
          <p:nvPr/>
        </p:nvSpPr>
        <p:spPr>
          <a:xfrm>
            <a:off x="6216480" y="3213360"/>
            <a:ext cx="1866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西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1050625"/>
          <p:cNvSpPr/>
          <p:nvPr/>
        </p:nvSpPr>
        <p:spPr>
          <a:xfrm>
            <a:off x="263520" y="143352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图形的空白部分与阴影部分比较：周长和面积都相等的是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周长相等，面积不相等的是（  ），周长不相等，面积相等的是（  ）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30" name="组合 1050628"/>
          <p:cNvGrpSpPr/>
          <p:nvPr/>
        </p:nvGrpSpPr>
        <p:grpSpPr>
          <a:xfrm>
            <a:off x="1317600" y="3193920"/>
            <a:ext cx="6488280" cy="2040120"/>
            <a:chOff x="1317600" y="3193920"/>
            <a:chExt cx="6488280" cy="2040120"/>
          </a:xfrm>
        </p:grpSpPr>
        <p:sp>
          <p:nvSpPr>
            <p:cNvPr id="131" name="矩形 1050627"/>
            <p:cNvSpPr/>
            <p:nvPr/>
          </p:nvSpPr>
          <p:spPr>
            <a:xfrm>
              <a:off x="1317600" y="3193920"/>
              <a:ext cx="6480360" cy="20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32" name="图片 1050629" descr=""/>
            <p:cNvPicPr/>
            <p:nvPr/>
          </p:nvPicPr>
          <p:blipFill>
            <a:blip r:embed="rId1"/>
            <a:stretch/>
          </p:blipFill>
          <p:spPr>
            <a:xfrm>
              <a:off x="1317600" y="3193920"/>
              <a:ext cx="6488280" cy="20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文本框 1050630"/>
          <p:cNvSpPr/>
          <p:nvPr/>
        </p:nvSpPr>
        <p:spPr>
          <a:xfrm>
            <a:off x="247680" y="1892520"/>
            <a:ext cx="1054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文本框 1050631"/>
          <p:cNvSpPr/>
          <p:nvPr/>
        </p:nvSpPr>
        <p:spPr>
          <a:xfrm>
            <a:off x="4622760" y="1892520"/>
            <a:ext cx="1054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文本框 1050632"/>
          <p:cNvSpPr/>
          <p:nvPr/>
        </p:nvSpPr>
        <p:spPr>
          <a:xfrm>
            <a:off x="806400" y="2400840"/>
            <a:ext cx="1054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051649"/>
          <p:cNvSpPr/>
          <p:nvPr/>
        </p:nvSpPr>
        <p:spPr>
          <a:xfrm>
            <a:off x="101520" y="1690560"/>
            <a:ext cx="92106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判断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底面积和高都相等的圆锥体的体积是圆柱体体积的  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角由两条直线和一个顶点组成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的周长与直径的比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:1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三角形中至少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锐角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长方形的长和宽都增加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面积增加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方厘米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37" name="对象 1051651"/>
          <p:cNvGraphicFramePr/>
          <p:nvPr/>
        </p:nvGraphicFramePr>
        <p:xfrm>
          <a:off x="7124760" y="2251080"/>
          <a:ext cx="190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对象 10516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4760" y="2251080"/>
                    <a:ext cx="19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文本框 1051652"/>
          <p:cNvSpPr/>
          <p:nvPr/>
        </p:nvSpPr>
        <p:spPr>
          <a:xfrm>
            <a:off x="7734240" y="2146680"/>
            <a:ext cx="800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" name="文本框 1051653"/>
          <p:cNvSpPr/>
          <p:nvPr/>
        </p:nvSpPr>
        <p:spPr>
          <a:xfrm>
            <a:off x="4915080" y="2654640"/>
            <a:ext cx="79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文本框 1051654"/>
          <p:cNvSpPr/>
          <p:nvPr/>
        </p:nvSpPr>
        <p:spPr>
          <a:xfrm>
            <a:off x="4648320" y="3162600"/>
            <a:ext cx="79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文本框 1051655"/>
          <p:cNvSpPr/>
          <p:nvPr/>
        </p:nvSpPr>
        <p:spPr>
          <a:xfrm>
            <a:off x="4788000" y="3657960"/>
            <a:ext cx="79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文本框 1051656"/>
          <p:cNvSpPr/>
          <p:nvPr/>
        </p:nvSpPr>
        <p:spPr>
          <a:xfrm>
            <a:off x="8153280" y="4165920"/>
            <a:ext cx="800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052673"/>
          <p:cNvSpPr/>
          <p:nvPr/>
        </p:nvSpPr>
        <p:spPr>
          <a:xfrm>
            <a:off x="254160" y="121608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择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等腰三角形的两条邻边长分别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这个等腰三角形的周长是（  ）厘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6            B.9            C.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图形周长较长的是（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甲比乙大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甲比乙小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甲和乙一样大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文本框 1052674"/>
          <p:cNvSpPr/>
          <p:nvPr/>
        </p:nvSpPr>
        <p:spPr>
          <a:xfrm>
            <a:off x="2390760" y="2184840"/>
            <a:ext cx="679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文本框 1052675"/>
          <p:cNvSpPr/>
          <p:nvPr/>
        </p:nvSpPr>
        <p:spPr>
          <a:xfrm>
            <a:off x="3940200" y="3188160"/>
            <a:ext cx="679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47" name="组合 1052681"/>
          <p:cNvGrpSpPr/>
          <p:nvPr/>
        </p:nvGrpSpPr>
        <p:grpSpPr>
          <a:xfrm>
            <a:off x="2075040" y="4313160"/>
            <a:ext cx="4216320" cy="1334880"/>
            <a:chOff x="2075040" y="4313160"/>
            <a:chExt cx="4216320" cy="1334880"/>
          </a:xfrm>
        </p:grpSpPr>
        <p:pic>
          <p:nvPicPr>
            <p:cNvPr id="148" name="图片 1052678" descr=""/>
            <p:cNvPicPr/>
            <p:nvPr/>
          </p:nvPicPr>
          <p:blipFill>
            <a:blip r:embed="rId1"/>
            <a:srcRect l="0" t="0" r="0" b="28829"/>
            <a:stretch/>
          </p:blipFill>
          <p:spPr>
            <a:xfrm>
              <a:off x="2075040" y="4313160"/>
              <a:ext cx="421632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矩形 1052679"/>
            <p:cNvSpPr/>
            <p:nvPr/>
          </p:nvSpPr>
          <p:spPr>
            <a:xfrm>
              <a:off x="2803680" y="5051520"/>
              <a:ext cx="8856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甲</a:t>
              </a: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50" name="矩形 1052680"/>
            <p:cNvSpPr/>
            <p:nvPr/>
          </p:nvSpPr>
          <p:spPr>
            <a:xfrm>
              <a:off x="5056200" y="5051520"/>
              <a:ext cx="9748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乙</a:t>
              </a: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1057793"/>
          <p:cNvSpPr/>
          <p:nvPr/>
        </p:nvSpPr>
        <p:spPr>
          <a:xfrm>
            <a:off x="263520" y="193824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图，下面的位置描述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正确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   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北偏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  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52" name="组合 1057796"/>
          <p:cNvGrpSpPr/>
          <p:nvPr/>
        </p:nvGrpSpPr>
        <p:grpSpPr>
          <a:xfrm>
            <a:off x="4381560" y="2263680"/>
            <a:ext cx="2679480" cy="2271960"/>
            <a:chOff x="4381560" y="2263680"/>
            <a:chExt cx="2679480" cy="2271960"/>
          </a:xfrm>
        </p:grpSpPr>
        <p:sp>
          <p:nvSpPr>
            <p:cNvPr id="153" name="矩形 1057795"/>
            <p:cNvSpPr/>
            <p:nvPr/>
          </p:nvSpPr>
          <p:spPr>
            <a:xfrm>
              <a:off x="4381560" y="2263680"/>
              <a:ext cx="2671560" cy="22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54" name="图片 1057797" descr=""/>
            <p:cNvPicPr/>
            <p:nvPr/>
          </p:nvPicPr>
          <p:blipFill>
            <a:blip r:embed="rId1"/>
            <a:stretch/>
          </p:blipFill>
          <p:spPr>
            <a:xfrm>
              <a:off x="4381560" y="2263680"/>
              <a:ext cx="2679480" cy="22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文本框 1057798"/>
          <p:cNvSpPr/>
          <p:nvPr/>
        </p:nvSpPr>
        <p:spPr>
          <a:xfrm>
            <a:off x="1368360" y="2400840"/>
            <a:ext cx="107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1060865"/>
          <p:cNvSpPr/>
          <p:nvPr/>
        </p:nvSpPr>
        <p:spPr>
          <a:xfrm>
            <a:off x="263520" y="1433520"/>
            <a:ext cx="90122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列现象中，不属于平移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乘直升电梯从一楼上到二楼 　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钟表的指针嘀嗒嘀嗒地走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火车在笔直的轨道上行驶 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小明和小兰是同班同学，他们都是向南而坐，小明的位置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，小兰的位置是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，小明在小兰的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左前方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左后方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右后方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文本框 1060866"/>
          <p:cNvSpPr/>
          <p:nvPr/>
        </p:nvSpPr>
        <p:spPr>
          <a:xfrm>
            <a:off x="4692600" y="1384560"/>
            <a:ext cx="876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文本框 1060867"/>
          <p:cNvSpPr/>
          <p:nvPr/>
        </p:nvSpPr>
        <p:spPr>
          <a:xfrm>
            <a:off x="6521400" y="3912120"/>
            <a:ext cx="876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1061889"/>
          <p:cNvSpPr/>
          <p:nvPr/>
        </p:nvSpPr>
        <p:spPr>
          <a:xfrm>
            <a:off x="263520" y="143352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画一画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画出小旗绕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逆时针旋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后的图形。画出此轴对称图形的另一半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60" name="图片 1061890" descr=""/>
          <p:cNvPicPr/>
          <p:nvPr/>
        </p:nvPicPr>
        <p:blipFill>
          <a:blip r:embed="rId1"/>
          <a:stretch/>
        </p:blipFill>
        <p:spPr>
          <a:xfrm>
            <a:off x="1971720" y="3124080"/>
            <a:ext cx="5272200" cy="190368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061898"/>
          <p:cNvGrpSpPr/>
          <p:nvPr/>
        </p:nvGrpSpPr>
        <p:grpSpPr>
          <a:xfrm>
            <a:off x="3097080" y="3422520"/>
            <a:ext cx="636840" cy="1317600"/>
            <a:chOff x="3097080" y="3422520"/>
            <a:chExt cx="636840" cy="1317600"/>
          </a:xfrm>
        </p:grpSpPr>
        <p:sp>
          <p:nvSpPr>
            <p:cNvPr id="162" name="直接连接符 1061892"/>
            <p:cNvSpPr/>
            <p:nvPr/>
          </p:nvSpPr>
          <p:spPr>
            <a:xfrm>
              <a:off x="3116160" y="3422520"/>
              <a:ext cx="600120" cy="42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3" name="直接连接符 1061893"/>
            <p:cNvSpPr/>
            <p:nvPr/>
          </p:nvSpPr>
          <p:spPr>
            <a:xfrm>
              <a:off x="3317760" y="3854160"/>
              <a:ext cx="398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4" name="直接连接符 1061894"/>
            <p:cNvSpPr/>
            <p:nvPr/>
          </p:nvSpPr>
          <p:spPr>
            <a:xfrm>
              <a:off x="3313080" y="3850920"/>
              <a:ext cx="409680" cy="4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5" name="直接连接符 1061895"/>
            <p:cNvSpPr/>
            <p:nvPr/>
          </p:nvSpPr>
          <p:spPr>
            <a:xfrm>
              <a:off x="3309840" y="4287600"/>
              <a:ext cx="424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6" name="直接连接符 1061896"/>
            <p:cNvSpPr/>
            <p:nvPr/>
          </p:nvSpPr>
          <p:spPr>
            <a:xfrm>
              <a:off x="3322800" y="4287600"/>
              <a:ext cx="0" cy="452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7" name="直接连接符 1061897"/>
            <p:cNvSpPr/>
            <p:nvPr/>
          </p:nvSpPr>
          <p:spPr>
            <a:xfrm>
              <a:off x="3097080" y="4728960"/>
              <a:ext cx="227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168" name="组合 1061901"/>
          <p:cNvGrpSpPr/>
          <p:nvPr/>
        </p:nvGrpSpPr>
        <p:grpSpPr>
          <a:xfrm>
            <a:off x="6153120" y="3409920"/>
            <a:ext cx="809640" cy="447480"/>
            <a:chOff x="6153120" y="3409920"/>
            <a:chExt cx="809640" cy="447480"/>
          </a:xfrm>
        </p:grpSpPr>
        <p:sp>
          <p:nvSpPr>
            <p:cNvPr id="169" name="直接连接符 1061899"/>
            <p:cNvSpPr/>
            <p:nvPr/>
          </p:nvSpPr>
          <p:spPr>
            <a:xfrm>
              <a:off x="6153120" y="3857400"/>
              <a:ext cx="809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0" name="直角三角形 1061900"/>
            <p:cNvSpPr/>
            <p:nvPr/>
          </p:nvSpPr>
          <p:spPr>
            <a:xfrm>
              <a:off x="6734160" y="3409920"/>
              <a:ext cx="190440" cy="447480"/>
            </a:xfrm>
            <a:prstGeom prst="rtTriangl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062913"/>
          <p:cNvSpPr/>
          <p:nvPr/>
        </p:nvSpPr>
        <p:spPr>
          <a:xfrm>
            <a:off x="263520" y="162396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只小羊在河边吃草，口渴了想喝水，请你设计一条从草地到小河边最近的线路，并在图上画出来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72" name="组合 1062916"/>
          <p:cNvGrpSpPr/>
          <p:nvPr/>
        </p:nvGrpSpPr>
        <p:grpSpPr>
          <a:xfrm>
            <a:off x="3043080" y="2870280"/>
            <a:ext cx="2743200" cy="1616040"/>
            <a:chOff x="3043080" y="2870280"/>
            <a:chExt cx="2743200" cy="1616040"/>
          </a:xfrm>
        </p:grpSpPr>
        <p:sp>
          <p:nvSpPr>
            <p:cNvPr id="173" name="矩形 1062915"/>
            <p:cNvSpPr/>
            <p:nvPr/>
          </p:nvSpPr>
          <p:spPr>
            <a:xfrm>
              <a:off x="3043080" y="2870280"/>
              <a:ext cx="273528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74" name="图片 1062917" descr=""/>
            <p:cNvPicPr/>
            <p:nvPr/>
          </p:nvPicPr>
          <p:blipFill>
            <a:blip r:embed="rId1"/>
            <a:stretch/>
          </p:blipFill>
          <p:spPr>
            <a:xfrm>
              <a:off x="3043080" y="2870280"/>
              <a:ext cx="2743200" cy="16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组合 1062922"/>
          <p:cNvGrpSpPr/>
          <p:nvPr/>
        </p:nvGrpSpPr>
        <p:grpSpPr>
          <a:xfrm>
            <a:off x="4070520" y="3490920"/>
            <a:ext cx="560520" cy="441360"/>
            <a:chOff x="4070520" y="3490920"/>
            <a:chExt cx="560520" cy="441360"/>
          </a:xfrm>
        </p:grpSpPr>
        <p:sp>
          <p:nvSpPr>
            <p:cNvPr id="176" name="直接连接符 1062918"/>
            <p:cNvSpPr/>
            <p:nvPr/>
          </p:nvSpPr>
          <p:spPr>
            <a:xfrm>
              <a:off x="4070520" y="3490920"/>
              <a:ext cx="442800" cy="441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177" name="组合 1062921"/>
            <p:cNvGrpSpPr/>
            <p:nvPr/>
          </p:nvGrpSpPr>
          <p:grpSpPr>
            <a:xfrm>
              <a:off x="4430520" y="3723840"/>
              <a:ext cx="200520" cy="113400"/>
              <a:chOff x="4430520" y="3723840"/>
              <a:chExt cx="200520" cy="113400"/>
            </a:xfrm>
          </p:grpSpPr>
          <p:sp>
            <p:nvSpPr>
              <p:cNvPr id="178" name="直接连接符 1062919"/>
              <p:cNvSpPr/>
              <p:nvPr/>
            </p:nvSpPr>
            <p:spPr>
              <a:xfrm flipV="1">
                <a:off x="4430520" y="3724200"/>
                <a:ext cx="122400" cy="1130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79" name="直接连接符 1062920"/>
              <p:cNvSpPr/>
              <p:nvPr/>
            </p:nvSpPr>
            <p:spPr>
              <a:xfrm>
                <a:off x="4537440" y="3723840"/>
                <a:ext cx="93600" cy="101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1063937"/>
          <p:cNvSpPr/>
          <p:nvPr/>
        </p:nvSpPr>
        <p:spPr>
          <a:xfrm>
            <a:off x="272880" y="184644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求下面图形的面积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3.14÷4-5×5÷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7.12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81" name="组合 1063940"/>
          <p:cNvGrpSpPr/>
          <p:nvPr/>
        </p:nvGrpSpPr>
        <p:grpSpPr>
          <a:xfrm>
            <a:off x="5005440" y="1789200"/>
            <a:ext cx="2903400" cy="2855880"/>
            <a:chOff x="5005440" y="1789200"/>
            <a:chExt cx="2903400" cy="2855880"/>
          </a:xfrm>
        </p:grpSpPr>
        <p:sp>
          <p:nvSpPr>
            <p:cNvPr id="182" name="矩形 1063939"/>
            <p:cNvSpPr/>
            <p:nvPr/>
          </p:nvSpPr>
          <p:spPr>
            <a:xfrm>
              <a:off x="5005440" y="1789200"/>
              <a:ext cx="2895120" cy="28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83" name="图片 1063941" descr=""/>
            <p:cNvPicPr/>
            <p:nvPr/>
          </p:nvPicPr>
          <p:blipFill>
            <a:blip r:embed="rId1"/>
            <a:stretch/>
          </p:blipFill>
          <p:spPr>
            <a:xfrm>
              <a:off x="5005440" y="1789200"/>
              <a:ext cx="2903400" cy="285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014785"/>
          <p:cNvSpPr/>
          <p:nvPr/>
        </p:nvSpPr>
        <p:spPr>
          <a:xfrm>
            <a:off x="254160" y="1549440"/>
            <a:ext cx="93484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兰兰的位置用数对（     ）表示，则她位于第（  ）列第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行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张明在教室的位置可用数对（     ）表示，如果王红坐在张明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前面，则王红的位置可用（     ）来表示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李丽面向北站立，她的前面是（   ），右边是（   ），左边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（   ），后面是（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文本框 1014798"/>
          <p:cNvSpPr/>
          <p:nvPr/>
        </p:nvSpPr>
        <p:spPr>
          <a:xfrm>
            <a:off x="3556080" y="2514960"/>
            <a:ext cx="1879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文本框 1014799"/>
          <p:cNvSpPr/>
          <p:nvPr/>
        </p:nvSpPr>
        <p:spPr>
          <a:xfrm>
            <a:off x="7388280" y="2514960"/>
            <a:ext cx="819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文本框 1014800"/>
          <p:cNvSpPr/>
          <p:nvPr/>
        </p:nvSpPr>
        <p:spPr>
          <a:xfrm>
            <a:off x="352440" y="3010320"/>
            <a:ext cx="819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文本框 1014801"/>
          <p:cNvSpPr/>
          <p:nvPr/>
        </p:nvSpPr>
        <p:spPr>
          <a:xfrm>
            <a:off x="4114800" y="3518280"/>
            <a:ext cx="1879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文本框 1014802"/>
          <p:cNvSpPr/>
          <p:nvPr/>
        </p:nvSpPr>
        <p:spPr>
          <a:xfrm>
            <a:off x="3137040" y="4026240"/>
            <a:ext cx="1879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文本框 1014803"/>
          <p:cNvSpPr/>
          <p:nvPr/>
        </p:nvSpPr>
        <p:spPr>
          <a:xfrm>
            <a:off x="4602240" y="4521600"/>
            <a:ext cx="117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文本框 1014804"/>
          <p:cNvSpPr/>
          <p:nvPr/>
        </p:nvSpPr>
        <p:spPr>
          <a:xfrm>
            <a:off x="6710400" y="4521600"/>
            <a:ext cx="117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东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文本框 1014805"/>
          <p:cNvSpPr/>
          <p:nvPr/>
        </p:nvSpPr>
        <p:spPr>
          <a:xfrm>
            <a:off x="538200" y="5029560"/>
            <a:ext cx="117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文本框 1014806"/>
          <p:cNvSpPr/>
          <p:nvPr/>
        </p:nvSpPr>
        <p:spPr>
          <a:xfrm>
            <a:off x="2646360" y="5029560"/>
            <a:ext cx="117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1064961"/>
          <p:cNvSpPr/>
          <p:nvPr/>
        </p:nvSpPr>
        <p:spPr>
          <a:xfrm>
            <a:off x="263520" y="170820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求下面图形的体积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×1.5×2-3.14×1×1×2÷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8.8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分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85" name="图片 1064962" descr=""/>
          <p:cNvPicPr/>
          <p:nvPr/>
        </p:nvPicPr>
        <p:blipFill>
          <a:blip r:embed="rId1"/>
          <a:stretch/>
        </p:blipFill>
        <p:spPr>
          <a:xfrm>
            <a:off x="4595760" y="1785960"/>
            <a:ext cx="39607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1065985"/>
          <p:cNvSpPr/>
          <p:nvPr/>
        </p:nvSpPr>
        <p:spPr>
          <a:xfrm>
            <a:off x="252360" y="117792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：下面方格中每格长度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87" name="图片 1065987" descr=""/>
          <p:cNvPicPr/>
          <p:nvPr/>
        </p:nvPicPr>
        <p:blipFill>
          <a:blip r:embed="rId1"/>
          <a:stretch/>
        </p:blipFill>
        <p:spPr>
          <a:xfrm>
            <a:off x="2259000" y="1811160"/>
            <a:ext cx="3959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067009"/>
          <p:cNvSpPr/>
          <p:nvPr/>
        </p:nvSpPr>
        <p:spPr>
          <a:xfrm>
            <a:off x="165240" y="116856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在方格纸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处画一个半径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的圆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画出圆的一条对称轴，使这条对称轴经过点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89" name="图片 1067010" descr=""/>
          <p:cNvPicPr/>
          <p:nvPr/>
        </p:nvPicPr>
        <p:blipFill>
          <a:blip r:embed="rId1"/>
          <a:stretch/>
        </p:blipFill>
        <p:spPr>
          <a:xfrm>
            <a:off x="2289240" y="2235240"/>
            <a:ext cx="3530520" cy="3402000"/>
          </a:xfrm>
          <a:prstGeom prst="rect">
            <a:avLst/>
          </a:prstGeom>
          <a:ln w="0">
            <a:noFill/>
          </a:ln>
        </p:spPr>
      </p:pic>
      <p:sp>
        <p:nvSpPr>
          <p:cNvPr id="190" name="直接连接符 1067011"/>
          <p:cNvSpPr/>
          <p:nvPr/>
        </p:nvSpPr>
        <p:spPr>
          <a:xfrm flipV="1">
            <a:off x="3048120" y="3273120"/>
            <a:ext cx="1985760" cy="199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椭圆 1067012"/>
          <p:cNvSpPr/>
          <p:nvPr/>
        </p:nvSpPr>
        <p:spPr>
          <a:xfrm>
            <a:off x="3413160" y="3462480"/>
            <a:ext cx="1444680" cy="14443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1073153"/>
          <p:cNvSpPr/>
          <p:nvPr/>
        </p:nvSpPr>
        <p:spPr>
          <a:xfrm>
            <a:off x="214200" y="1846440"/>
            <a:ext cx="8620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计算出这个圆的周长和面积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×2×3.14=12.5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厘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3.14=12.5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平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1068033"/>
          <p:cNvSpPr/>
          <p:nvPr/>
        </p:nvSpPr>
        <p:spPr>
          <a:xfrm>
            <a:off x="263520" y="143352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是李明家去友谊广场的路线图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94" name="组合 1068036"/>
          <p:cNvGrpSpPr/>
          <p:nvPr/>
        </p:nvGrpSpPr>
        <p:grpSpPr>
          <a:xfrm>
            <a:off x="1587600" y="2230560"/>
            <a:ext cx="5751360" cy="2719440"/>
            <a:chOff x="1587600" y="2230560"/>
            <a:chExt cx="5751360" cy="2719440"/>
          </a:xfrm>
        </p:grpSpPr>
        <p:sp>
          <p:nvSpPr>
            <p:cNvPr id="195" name="矩形 1068035"/>
            <p:cNvSpPr/>
            <p:nvPr/>
          </p:nvSpPr>
          <p:spPr>
            <a:xfrm>
              <a:off x="1587600" y="2230560"/>
              <a:ext cx="5743440" cy="27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96" name="图片 1068037" descr=""/>
            <p:cNvPicPr/>
            <p:nvPr/>
          </p:nvPicPr>
          <p:blipFill>
            <a:blip r:embed="rId1"/>
            <a:stretch/>
          </p:blipFill>
          <p:spPr>
            <a:xfrm>
              <a:off x="1587600" y="2230560"/>
              <a:ext cx="5751360" cy="271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1069057"/>
          <p:cNvSpPr/>
          <p:nvPr/>
        </p:nvSpPr>
        <p:spPr>
          <a:xfrm>
            <a:off x="263520" y="155736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请你描述从李明家去友谊广场的路线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先向东偏北方向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到市医院，再向西偏北方向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到公园，最后向西偏南方向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到友谊广场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李明每分钟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行完全程要用多少分钟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0+600+4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÷80=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分钟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行完全程要用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分钟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1070081"/>
          <p:cNvSpPr/>
          <p:nvPr/>
        </p:nvSpPr>
        <p:spPr>
          <a:xfrm>
            <a:off x="263520" y="162396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解决问题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圆柱形容器的底面半径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，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，里面盛满水，倒进棱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米的正方体容器内，水深是多少分米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.14×4×4×6÷8÷8=4.7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分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水深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.7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分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1071105"/>
          <p:cNvSpPr/>
          <p:nvPr/>
        </p:nvSpPr>
        <p:spPr>
          <a:xfrm>
            <a:off x="223920" y="167004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教室的长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宽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如果用边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的方砖铺地，需要多少块砖？如果每块砖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元，一共要多少元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×8÷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0.5×0.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19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块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92×30=57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元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需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9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块砖，一共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7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元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1072129"/>
          <p:cNvSpPr/>
          <p:nvPr/>
        </p:nvSpPr>
        <p:spPr>
          <a:xfrm>
            <a:off x="263520" y="136692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一个密封瓶子里装有一些水（如图），瓶子的底面积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方厘米，你能计算出这个瓶子的容积吗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×4+12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-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7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立方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这个瓶子的容积是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立方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01" name="图片 1072130" descr=""/>
          <p:cNvPicPr/>
          <p:nvPr/>
        </p:nvPicPr>
        <p:blipFill>
          <a:blip r:embed="rId1"/>
          <a:stretch/>
        </p:blipFill>
        <p:spPr>
          <a:xfrm>
            <a:off x="1917720" y="2647800"/>
            <a:ext cx="43434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015809"/>
          <p:cNvSpPr/>
          <p:nvPr/>
        </p:nvSpPr>
        <p:spPr>
          <a:xfrm>
            <a:off x="263520" y="143352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王亮面向东北站立，他的背朝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西南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东南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西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图，已知小芳家在小明家的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，那么小明家在小芳家的（  ）方向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°    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南偏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°   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南偏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0°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文本框 1015812"/>
          <p:cNvSpPr/>
          <p:nvPr/>
        </p:nvSpPr>
        <p:spPr>
          <a:xfrm>
            <a:off x="4672080" y="1892520"/>
            <a:ext cx="91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文本框 1015813"/>
          <p:cNvSpPr/>
          <p:nvPr/>
        </p:nvSpPr>
        <p:spPr>
          <a:xfrm>
            <a:off x="1446120" y="3404160"/>
            <a:ext cx="91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4" name="图片 1015814" descr=""/>
          <p:cNvPicPr/>
          <p:nvPr/>
        </p:nvPicPr>
        <p:blipFill>
          <a:blip r:embed="rId1"/>
          <a:stretch/>
        </p:blipFill>
        <p:spPr>
          <a:xfrm>
            <a:off x="6450120" y="3692520"/>
            <a:ext cx="235584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043457"/>
          <p:cNvSpPr/>
          <p:nvPr/>
        </p:nvSpPr>
        <p:spPr>
          <a:xfrm>
            <a:off x="195120" y="166860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用数对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表示张强的位置，下面说法正确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他一定在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列    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他不可能在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行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他一定在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行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小明在班级中的座位，无论从哪个方向看都是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，他所在班级有（  ）人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16                 B.49                 C.6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文本框 1043458"/>
          <p:cNvSpPr/>
          <p:nvPr/>
        </p:nvSpPr>
        <p:spPr>
          <a:xfrm>
            <a:off x="7473960" y="1626120"/>
            <a:ext cx="79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文本框 1043459"/>
          <p:cNvSpPr/>
          <p:nvPr/>
        </p:nvSpPr>
        <p:spPr>
          <a:xfrm>
            <a:off x="1428840" y="3645360"/>
            <a:ext cx="79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044481"/>
          <p:cNvSpPr/>
          <p:nvPr/>
        </p:nvSpPr>
        <p:spPr>
          <a:xfrm>
            <a:off x="272880" y="1847880"/>
            <a:ext cx="86202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猴山的位置用数对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表示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孔雀亭、熊猫馆和东门的位置分别用数对怎么表示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老虎园在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处，盆景园在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处，北门在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处，请你在图中标出这几个位置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045506" descr=""/>
          <p:cNvPicPr/>
          <p:nvPr/>
        </p:nvPicPr>
        <p:blipFill>
          <a:blip r:embed="rId1"/>
          <a:stretch/>
        </p:blipFill>
        <p:spPr>
          <a:xfrm>
            <a:off x="2127240" y="1628640"/>
            <a:ext cx="3908520" cy="33940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045507" descr=""/>
          <p:cNvPicPr/>
          <p:nvPr/>
        </p:nvPicPr>
        <p:blipFill>
          <a:blip r:embed="rId2"/>
          <a:stretch/>
        </p:blipFill>
        <p:spPr>
          <a:xfrm>
            <a:off x="1522440" y="1498680"/>
            <a:ext cx="5719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046529"/>
          <p:cNvSpPr/>
          <p:nvPr/>
        </p:nvSpPr>
        <p:spPr>
          <a:xfrm>
            <a:off x="263520" y="121752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，如果梨的位置可以用数对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表示，那么苹果的位置可以用数对（  ，  ）表示。如果西瓜的位置在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，在图中标出西瓜的位置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2" name="图片 1046530" descr=""/>
          <p:cNvPicPr/>
          <p:nvPr/>
        </p:nvPicPr>
        <p:blipFill>
          <a:blip r:embed="rId1"/>
          <a:stretch/>
        </p:blipFill>
        <p:spPr>
          <a:xfrm>
            <a:off x="2475000" y="2557440"/>
            <a:ext cx="3800520" cy="2936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046531" descr=""/>
          <p:cNvPicPr/>
          <p:nvPr/>
        </p:nvPicPr>
        <p:blipFill>
          <a:blip r:embed="rId2"/>
          <a:stretch/>
        </p:blipFill>
        <p:spPr>
          <a:xfrm>
            <a:off x="2565360" y="2576520"/>
            <a:ext cx="3672000" cy="29844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046532"/>
          <p:cNvSpPr/>
          <p:nvPr/>
        </p:nvSpPr>
        <p:spPr>
          <a:xfrm>
            <a:off x="1593720" y="1676880"/>
            <a:ext cx="660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文本框 1046533"/>
          <p:cNvSpPr/>
          <p:nvPr/>
        </p:nvSpPr>
        <p:spPr>
          <a:xfrm>
            <a:off x="2044800" y="167688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047553"/>
          <p:cNvSpPr/>
          <p:nvPr/>
        </p:nvSpPr>
        <p:spPr>
          <a:xfrm>
            <a:off x="244440" y="1098720"/>
            <a:ext cx="8620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明家正西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是超市，超市正北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是学校，学校正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是动物园，动物园正南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5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是医院，先确定比例尺，再画出上述地点的平面图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案：略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7" name="图片 1047554" descr=""/>
          <p:cNvPicPr/>
          <p:nvPr/>
        </p:nvPicPr>
        <p:blipFill>
          <a:blip r:embed="rId1"/>
          <a:stretch/>
        </p:blipFill>
        <p:spPr>
          <a:xfrm>
            <a:off x="3121200" y="2895480"/>
            <a:ext cx="32572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1056772"/>
          <p:cNvSpPr/>
          <p:nvPr/>
        </p:nvSpPr>
        <p:spPr>
          <a:xfrm>
            <a:off x="263520" y="1825560"/>
            <a:ext cx="9244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经过两点能画（   ）条直线，经过一点能画（     ）条直线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用圆规画一个周长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.4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的圆，圆规两脚间的距离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）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3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平方厘米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）平方分米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公顷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 ）平方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0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升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  ）毫升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文本框 1056773"/>
          <p:cNvSpPr/>
          <p:nvPr/>
        </p:nvSpPr>
        <p:spPr>
          <a:xfrm>
            <a:off x="2833560" y="2286360"/>
            <a:ext cx="797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文本框 1056774"/>
          <p:cNvSpPr/>
          <p:nvPr/>
        </p:nvSpPr>
        <p:spPr>
          <a:xfrm>
            <a:off x="6537240" y="2286360"/>
            <a:ext cx="1276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无数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文本框 1056775"/>
          <p:cNvSpPr/>
          <p:nvPr/>
        </p:nvSpPr>
        <p:spPr>
          <a:xfrm>
            <a:off x="393840" y="3289680"/>
            <a:ext cx="104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文本框 1056776"/>
          <p:cNvSpPr/>
          <p:nvPr/>
        </p:nvSpPr>
        <p:spPr>
          <a:xfrm>
            <a:off x="2781360" y="3797640"/>
            <a:ext cx="1041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.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文本框 1056777"/>
          <p:cNvSpPr/>
          <p:nvPr/>
        </p:nvSpPr>
        <p:spPr>
          <a:xfrm>
            <a:off x="1428840" y="4305600"/>
            <a:ext cx="1523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10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文本框 1056778"/>
          <p:cNvSpPr/>
          <p:nvPr/>
        </p:nvSpPr>
        <p:spPr>
          <a:xfrm>
            <a:off x="1339920" y="4800960"/>
            <a:ext cx="128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06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30:01Z</dcterms:created>
  <dc:creator>世纪金榜</dc:creator>
  <dc:description/>
  <dc:language>en-US</dc:language>
  <cp:lastModifiedBy>admin</cp:lastModifiedBy>
  <dcterms:modified xsi:type="dcterms:W3CDTF">2018-01-22T00:40:45Z</dcterms:modified>
  <cp:revision>1332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